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503-62F0-498F-AC7F-46E32DD7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2D4-229E-4160-8547-109647A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9DB-E26C-4BB2-AF8C-A1A22426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A79-E8A1-4074-8DC7-A20C5CE8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E34-5BD3-475F-ABDA-17AC794B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5A2-451C-49EC-94A6-FBC850E5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0478-421F-478B-BF83-AC7D5DE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CA9-869D-4AE5-9619-5BC6572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F2EE-4C8B-4926-B1B6-A280736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3AF3-96EE-4C93-A502-DA2C05E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F7D2-17C1-4716-9C51-D5C737B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48F-0257-405C-87A3-50EFC97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3F6C-B822-482C-8D20-8781860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28D-C047-45C5-A388-C84595D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09C-3A48-4C60-815F-DEE5193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59FB-9316-43A9-B656-8AD3DC80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ADA-7704-4181-8DEA-00EB90AD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C1B-00AE-47FC-87AA-44BE1E9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C6C-EED5-4BC1-A190-F527A75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C1A-85C5-488E-8A8D-F5A50F94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0BF-0CBC-4AC9-A2F8-B1AC26A3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AA0-669A-416C-91AA-23E12E0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AE1-4F8C-4883-8CE8-6EA86B2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EB3-3B23-4347-9F04-B1990B5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61EA-3896-4A64-BC99-B9DEF9E656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2824-6AE8-4483-B150-736F2047F8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inemademinuit.france3.fr/" TargetMode="External"/><Relationship Id="rId2" Type="http://schemas.openxmlformats.org/officeDocument/2006/relationships/hyperlink" Target="http://cinemademinuit.france3.fr/" TargetMode="External"/><Relationship Id="rId3" Type="http://schemas.openxmlformats.org/officeDocument/2006/relationships/hyperlink" Target="http://cinemademinuit.france3.fr/" TargetMode="External"/><Relationship Id="rId4" Type="http://schemas.openxmlformats.org/officeDocument/2006/relationships/hyperlink" Target="http://programmes.france3.fr/city-homicide" TargetMode="External"/><Relationship Id="rId5" Type="http://schemas.openxmlformats.org/officeDocument/2006/relationships/hyperlink" Target="http://lacrim.france2.fr/" TargetMode="External"/><Relationship Id="rId6" Type="http://schemas.openxmlformats.org/officeDocument/2006/relationships/hyperlink" Target="http://lacrim.france2.fr/" TargetMode="External"/><Relationship Id="rId7" Type="http://schemas.openxmlformats.org/officeDocument/2006/relationships/hyperlink" Target="http://lacrim.france2.fr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francetv.fr/deshommesenvrai/" TargetMode="External"/><Relationship Id="rId2" Type="http://schemas.openxmlformats.org/officeDocument/2006/relationships/hyperlink" Target="http://blog.francetv.fr/deshommesenvrai/" TargetMode="External"/><Relationship Id="rId3" Type="http://schemas.openxmlformats.org/officeDocument/2006/relationships/hyperlink" Target="http://blog.francetv.fr/deshommesenvrai/" TargetMode="External"/><Relationship Id="rId4" Type="http://schemas.openxmlformats.org/officeDocument/2006/relationships/hyperlink" Target="http://blog.francetv.fr/deshommesenvrai/" TargetMode="External"/><Relationship Id="rId5" Type="http://schemas.openxmlformats.org/officeDocument/2006/relationships/hyperlink" Target="http://blog.francetv.fr/deshommesenvrai/" TargetMode="External"/><Relationship Id="rId6" Type="http://schemas.openxmlformats.org/officeDocument/2006/relationships/hyperlink" Target="http://blog.francetv.fr/deshommesenvrai/" TargetMode="External"/><Relationship Id="rId7" Type="http://schemas.openxmlformats.org/officeDocument/2006/relationships/hyperlink" Target="http://blog.francetv.fr/deshommesenvrai/" TargetMode="External"/><Relationship Id="rId8" Type="http://schemas.openxmlformats.org/officeDocument/2006/relationships/hyperlink" Target="http://blog.francetv.fr/deshommesenvrai/" TargetMode="External"/><Relationship Id="rId9" Type="http://schemas.openxmlformats.org/officeDocument/2006/relationships/hyperlink" Target="http://blog.francetv.fr/deshommesenvrai/" TargetMode="External"/><Relationship Id="rId10" Type="http://schemas.openxmlformats.org/officeDocument/2006/relationships/hyperlink" Target="http://blog.francetv.fr/deshommesenvrai/" TargetMode="External"/><Relationship Id="rId11" Type="http://schemas.openxmlformats.org/officeDocument/2006/relationships/hyperlink" Target="http://blog.francetv.fr/deshommesenvrai/" TargetMode="External"/><Relationship Id="rId12" Type="http://schemas.openxmlformats.org/officeDocument/2006/relationships/hyperlink" Target="http://blog.francetv.fr/deshommesenvrai/" TargetMode="External"/><Relationship Id="rId13" Type="http://schemas.openxmlformats.org/officeDocument/2006/relationships/hyperlink" Target="http://blog.francetv.fr/deshommesenvrai/" TargetMode="External"/><Relationship Id="rId14" Type="http://schemas.openxmlformats.org/officeDocument/2006/relationships/hyperlink" Target="http://blog.francetv.fr/deshommesenvrai/" TargetMode="External"/><Relationship Id="rId15" Type="http://schemas.openxmlformats.org/officeDocument/2006/relationships/hyperlink" Target="http://blog.francetv.fr/deshommesenvrai/" TargetMode="External"/><Relationship Id="rId16" Type="http://schemas.openxmlformats.org/officeDocument/2006/relationships/hyperlink" Target="http://blog.francetv.fr/deshommesenvrai/" TargetMode="External"/><Relationship Id="rId17" Type="http://schemas.openxmlformats.org/officeDocument/2006/relationships/hyperlink" Target="http://blog.francetv.fr/deshommesenvrai/" TargetMode="External"/><Relationship Id="rId18" Type="http://schemas.openxmlformats.org/officeDocument/2006/relationships/hyperlink" Target="http://blog.francetv.fr/deshommesenvrai/" TargetMode="External"/><Relationship Id="rId19" Type="http://schemas.openxmlformats.org/officeDocument/2006/relationships/hyperlink" Target="http://blog.francetv.fr/deshommesenvrai/" TargetMode="External"/><Relationship Id="rId20" Type="http://schemas.openxmlformats.org/officeDocument/2006/relationships/hyperlink" Target="http://blog.francetv.fr/deshommesenvrai/" TargetMode="External"/><Relationship Id="rId21" Type="http://schemas.openxmlformats.org/officeDocument/2006/relationships/hyperlink" Target="http://blog.francetv.fr/deshommesenvrai/" TargetMode="External"/><Relationship Id="rId22" Type="http://schemas.openxmlformats.org/officeDocument/2006/relationships/hyperlink" Target="http://blog.francetv.fr/deshommesenvrai/" TargetMode="External"/><Relationship Id="rId23" Type="http://schemas.openxmlformats.org/officeDocument/2006/relationships/hyperlink" Target="http://blog.francetv.fr/deshommesenvrai/" TargetMode="External"/><Relationship Id="rId24" Type="http://schemas.openxmlformats.org/officeDocument/2006/relationships/hyperlink" Target="http://blog.francetv.fr/deshommesenvrai/" TargetMode="External"/><Relationship Id="rId25" Type="http://schemas.openxmlformats.org/officeDocument/2006/relationships/hyperlink" Target="http://blog.francetv.fr/deshommesenvrai/" TargetMode="External"/><Relationship Id="rId26" Type="http://schemas.openxmlformats.org/officeDocument/2006/relationships/hyperlink" Target="http://blog.francetv.fr/deshommesenvrai/" TargetMode="External"/><Relationship Id="rId27" Type="http://schemas.openxmlformats.org/officeDocument/2006/relationships/hyperlink" Target="http://blog.francetv.fr/deshommesenvrai/" TargetMode="External"/><Relationship Id="rId28" Type="http://schemas.openxmlformats.org/officeDocument/2006/relationships/hyperlink" Target="http://blog.francetv.fr/deshommesenvrai/" TargetMode="External"/><Relationship Id="rId29" Type="http://schemas.openxmlformats.org/officeDocument/2006/relationships/hyperlink" Target="http://blog.francetv.fr/deshommesenvrai/" TargetMode="External"/><Relationship Id="rId30" Type="http://schemas.openxmlformats.org/officeDocument/2006/relationships/hyperlink" Target="http://blog.francetv.fr/deshommesenvrai/" TargetMode="External"/><Relationship Id="rId31" Type="http://schemas.openxmlformats.org/officeDocument/2006/relationships/hyperlink" Target="http://blog.francetv.fr/deshommesenvrai/" TargetMode="External"/><Relationship Id="rId32" Type="http://schemas.openxmlformats.org/officeDocument/2006/relationships/hyperlink" Target="http://blog.francetv.fr/deshommesenvrai/" TargetMode="External"/><Relationship Id="rId33" Type="http://schemas.openxmlformats.org/officeDocument/2006/relationships/hyperlink" Target="http://blog.francetv.fr/deshommesenvrai/" TargetMode="External"/><Relationship Id="rId34" Type="http://schemas.openxmlformats.org/officeDocument/2006/relationships/hyperlink" Target="http://blog.francetv.fr/deshommesenvrai/" TargetMode="External"/><Relationship Id="rId35" Type="http://schemas.openxmlformats.org/officeDocument/2006/relationships/hyperlink" Target="http://blog.francetv.fr/deshommesenvrai/" TargetMode="External"/><Relationship Id="rId36" Type="http://schemas.openxmlformats.org/officeDocument/2006/relationships/hyperlink" Target="http://blog.francetv.fr/deshommesenvrai/" TargetMode="External"/><Relationship Id="rId37" Type="http://schemas.openxmlformats.org/officeDocument/2006/relationships/hyperlink" Target="http://blog.francetv.fr/deshommesenvrai/" TargetMode="External"/><Relationship Id="rId38" Type="http://schemas.openxmlformats.org/officeDocument/2006/relationships/hyperlink" Target="http://blog.francetv.fr/deshommesenvrai/" TargetMode="External"/><Relationship Id="rId39" Type="http://schemas.openxmlformats.org/officeDocument/2006/relationships/hyperlink" Target="http://blog.francetv.fr/deshommesenvrai/" TargetMode="External"/><Relationship Id="rId40" Type="http://schemas.openxmlformats.org/officeDocument/2006/relationships/hyperlink" Target="http://blog.francetv.fr/deshommesenvrai/" TargetMode="External"/><Relationship Id="rId41" Type="http://schemas.openxmlformats.org/officeDocument/2006/relationships/hyperlink" Target="http://blog.francetv.fr/deshommesenvrai/" TargetMode="External"/><Relationship Id="rId42" Type="http://schemas.openxmlformats.org/officeDocument/2006/relationships/hyperlink" Target="http://blog.francetv.fr/deshommesenvrai/" TargetMode="External"/><Relationship Id="rId43" Type="http://schemas.openxmlformats.org/officeDocument/2006/relationships/hyperlink" Target="http://blog.francetv.fr/deshommesenvrai/" TargetMode="External"/><Relationship Id="rId44" Type="http://schemas.openxmlformats.org/officeDocument/2006/relationships/hyperlink" Target="http://blog.francetv.fr/deshommesenvrai/" TargetMode="External"/><Relationship Id="rId45" Type="http://schemas.openxmlformats.org/officeDocument/2006/relationships/hyperlink" Target="http://blog.francetv.fr/deshommesenvrai/" TargetMode="External"/><Relationship Id="rId46" Type="http://schemas.openxmlformats.org/officeDocument/2006/relationships/hyperlink" Target="http://blog.francetv.fr/deshommesenvrai/" TargetMode="External"/><Relationship Id="rId47" Type="http://schemas.openxmlformats.org/officeDocument/2006/relationships/hyperlink" Target="http://blog.francetv.fr/deshommesenvrai/" TargetMode="External"/><Relationship Id="rId48" Type="http://schemas.openxmlformats.org/officeDocument/2006/relationships/hyperlink" Target="http://blog.francetv.fr/deshommesenvrai/" TargetMode="External"/><Relationship Id="rId49" Type="http://schemas.openxmlformats.org/officeDocument/2006/relationships/hyperlink" Target="http://blog.francetv.fr/deshommesenvrai/" TargetMode="External"/><Relationship Id="rId50" Type="http://schemas.openxmlformats.org/officeDocument/2006/relationships/hyperlink" Target="http://blog.francetv.fr/deshommesenvrai/" TargetMode="External"/><Relationship Id="rId51" Type="http://schemas.openxmlformats.org/officeDocument/2006/relationships/hyperlink" Target="http://blog.francetv.fr/deshommesenvrai/" TargetMode="External"/><Relationship Id="rId52" Type="http://schemas.openxmlformats.org/officeDocument/2006/relationships/image" Target="../media/image8.png"/><Relationship Id="rId5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s 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isions en Fra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ance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724280"/>
            <a:ext cx="38098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629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ammes du can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59508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 magasines 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4 véri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À vous de ju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D’aujourd’h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’art D’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POL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09480"/>
            <a:ext cx="1981080" cy="53352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3429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ous ofrre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6160" y="2514240"/>
            <a:ext cx="404028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information en temps ré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issions culturelles intéressa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80880"/>
            <a:ext cx="1600200" cy="54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42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3864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s séries/fiction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iném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minu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ity Homic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rim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amille Serra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le d'accue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quêtes réservé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enquêtes de Murdo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9000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4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4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4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Arial"/>
              </a:rPr>
              <a:t>La Crim`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7120" y="2514600"/>
            <a:ext cx="241920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De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omme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vra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_x000b_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E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en couple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fil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pè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... François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Chilowic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 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film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sa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rencon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 avec 6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homm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 qui, à un momen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donn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 d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leur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 vies, s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son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interrogé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s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 l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difficult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 d’être un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omm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9"/>
              </a:rPr>
              <a:t>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0"/>
              </a:rPr>
              <a:t>Consul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1"/>
              </a:rPr>
              <a:t> l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2"/>
              </a:rPr>
              <a:t>blog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3"/>
              </a:rPr>
              <a:t> du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4"/>
              </a:rPr>
              <a:t>réalisate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5"/>
              </a:rPr>
              <a:t> e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6"/>
              </a:rPr>
              <a:t>ajou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7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8"/>
              </a:rPr>
              <a:t>vo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0"/>
              </a:rPr>
              <a:t>commentair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1"/>
              </a:rPr>
              <a:t> ! _x000b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1219320" y="1371600"/>
            <a:ext cx="6553080" cy="2779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La u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149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1143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YPD Blu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49568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441864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 u="sng">
                <a:solidFill>
                  <a:srgbClr val="ffffff"/>
                </a:solidFill>
                <a:uFillTx/>
                <a:latin typeface="Verdana"/>
              </a:rPr>
              <a:t>NYPD Blu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a vie d’un commissari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du 15e district de New York au pri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avec d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istoires de meurtres, vols, trafics de drogu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racisme.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BATMA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odèle pour les jeu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4343400"/>
            <a:ext cx="586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MAN-un classique immor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s enfants et des jeunes ,,BATMAN’’ est  un moyen de developper l’imagination des enfants et d’apprendre le frança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1T18:38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